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25.wmf" ContentType="image/x-wmf"/>
  <Override PartName="/ppt/media/image14.jpeg" ContentType="image/jpeg"/>
  <Override PartName="/ppt/media/image1.png" ContentType="image/png"/>
  <Override PartName="/ppt/media/image29.wmf" ContentType="image/x-wmf"/>
  <Override PartName="/ppt/media/image26.png" ContentType="image/png"/>
  <Override PartName="/ppt/media/image17.jpeg" ContentType="image/jpeg"/>
  <Override PartName="/ppt/media/image45.wmf" ContentType="image/x-wmf"/>
  <Override PartName="/ppt/media/image3.png" ContentType="image/png"/>
  <Override PartName="/ppt/media/image31.jpeg" ContentType="image/jpeg"/>
  <Override PartName="/ppt/media/image34.wmf" ContentType="image/x-wmf"/>
  <Override PartName="/ppt/media/image35.png" ContentType="image/png"/>
  <Override PartName="/ppt/media/image5.jpeg" ContentType="image/jpeg"/>
  <Override PartName="/ppt/media/image13.png" ContentType="image/png"/>
  <Override PartName="/ppt/media/image33.wmf" ContentType="image/x-wmf"/>
  <Override PartName="/ppt/media/image36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32.png" ContentType="image/png"/>
  <Override PartName="/ppt/media/image7.png" ContentType="image/png"/>
  <Override PartName="/ppt/media/image43.wmf" ContentType="image/x-wmf"/>
  <Override PartName="/ppt/media/image44.wmf" ContentType="image/x-wmf"/>
  <Override PartName="/ppt/media/image46.png" ContentType="image/png"/>
  <Override PartName="/ppt/media/image48.png" ContentType="image/png"/>
  <Override PartName="/ppt/media/image11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41.wmf" ContentType="image/x-wmf"/>
  <Override PartName="/ppt/media/image8.jpeg" ContentType="image/jpeg"/>
  <Override PartName="/ppt/media/image42.wmf" ContentType="image/x-wmf"/>
  <Override PartName="/ppt/media/image9.png" ContentType="image/png"/>
  <Override PartName="/ppt/media/image12.png" ContentType="image/png"/>
  <Override PartName="/ppt/media/image6.png" ContentType="image/png"/>
  <Override PartName="/ppt/media/image4.jpeg" ContentType="image/jpeg"/>
  <Override PartName="/ppt/media/image40.png" ContentType="image/png"/>
  <Override PartName="/ppt/media/image3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E8FA-9E11-496C-ABA8-E36C36EC7E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5e1ec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198D-63CD-4D81-8365-F82656599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the excel sheet picture and the picture of a segment of our fathom table that includeseverything g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35EE-D34A-4D1E-9F95-C019E7A46F81}" type="slidenum">
              <a:rPr b="0" lang="en-US" sz="1200" spc="-1" strike="noStrike">
                <a:solidFill>
                  <a:srgbClr val="f5e1e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5e1e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945-2DC0-4456-ACDC-AB784DFC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326-9855-4869-96AF-59FFD713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9B5-5C56-451B-B3DD-439CB404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57E-8EF8-40A3-8BDC-6ABF8161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6B6D-46FF-415A-82B9-9052A017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678E-6FAC-44E4-B4D1-3FE3B325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7423-4A49-451C-8E56-733C7DF9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B81B-BD47-469A-8C11-CC2AC5A4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0EFA-F333-4109-A004-174734FF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F494-8B66-49A7-9CDD-46FC4CA8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C31C-67BF-4EDD-82A5-B567E672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01E8-348B-4551-AA73-5A2A0476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6124-7C2F-4545-BB60-7BCA3755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243B-A216-426E-AD75-0E4D11B7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ED02-ACBC-4961-97B4-D010A925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E003-D9B7-4B43-BE49-0D691317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60E2-D185-4EDB-AA10-3DF2CDE3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FC984-602D-4F6F-8E41-37EE1CA8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45A75-F950-40C7-BC71-D1DB960F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E2D8C-F7B4-41DA-BC81-F01B04E1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2B425-9D33-4E08-87E0-8787D5F9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2024D-1364-4B76-98A3-5214145E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E72-A400-4228-9EA9-7C116C72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76CE5-8974-4B7D-9811-EBAB9D5C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ACD03-1A3C-47DF-833E-036E56A1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2164A-BB4C-4B29-8826-DA5F2F43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B9CEC-0A93-430A-9FA0-4F322E5D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83C03-A70C-4E8D-9E60-06A02B06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DECD0-2E5D-4B7B-8993-EC724D40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EDD68-A3FA-45E2-B50D-79725ED5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9E6A8-21BB-49B2-A284-0A127184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29928-EACD-4804-BD21-375E8EBE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877E9-4B85-4E27-9953-0810ECBA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050-D6CC-46B1-8AAF-B6228D0F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F8D6B-FE57-4203-9F72-6009FCA6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671E6-9300-4D12-8C59-A0656512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1489E-740B-48A4-AB3C-DD71B472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001AC-AA42-4043-87A8-4EB9BD77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A512F-7B01-4A1C-894F-4B58D335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4B447-6371-43F3-B8BC-BA96C97C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06036-BD6E-4C18-8885-8688623F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BBA7D-7DF0-4C2B-B404-77FBCCDB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F7A45-4DB3-4CC3-BD4A-14A87523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03288-3A61-470B-91AF-3B35BDEC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260-F4A3-4526-AB3B-9B8F36AF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B20DA-F4BE-4726-A050-28459223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66D27-353C-4A35-BFE2-3C4D9183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E88FB-8E70-4D5F-8378-4AE362AD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2A331-83C6-4A9E-BBD2-391FF2F8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A965B-B359-45BF-9D2B-D0E54396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11C45-E4BC-49AD-987F-5DBD15CA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8866D-9854-44C4-BDD2-9D8D3EBA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51760-AF23-47C0-ACA6-9F63B95B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5527A-236B-42A3-8330-2B543BE1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0D287-8EB6-43E7-B477-9F669FD2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A7B-B777-4EE8-9563-44AD74F2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D27B3-AB2E-4374-BDC2-B7F0D2E7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96E-30DC-42A2-AE31-A0C9E740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D76-DFA1-4C36-958B-BBA05DA1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D6F-86F3-4998-810C-E85F9A70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5e1ec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5e1ec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5e1e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5e1e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F2FF-5689-4A7B-8696-00A950B4ABB4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804F-A3DD-4751-BCBB-507D3EB83C7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5e1ec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5e1ec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5e1e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5e1e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5C7D-E3C5-4CAC-BA61-671CA0C814CA}" type="datetime">
              <a:rPr b="0" lang="en-US" sz="1000" spc="-1" strike="noStrike">
                <a:solidFill>
                  <a:srgbClr val="ffffff"/>
                </a:solidFill>
                <a:latin typeface="Trebuchet MS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3F43-7F2A-44CC-8A70-FF980EDE7F26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5e1ec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5e1ec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5e1e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5e1e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47ED-42B5-4D2F-8691-A8826857B6E3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16F1-7521-4949-8BBE-7345C192EBC5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DCFF-1C2D-46D4-B30A-5A66A38F9A12}" type="datetime">
              <a:rPr b="0" lang="en-US" sz="1000" spc="-1" strike="noStrike">
                <a:solidFill>
                  <a:srgbClr val="000000"/>
                </a:solidFill>
                <a:latin typeface="Trebuchet MS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B3DC-8E8A-4485-A413-032A9A3C1646}" type="slidenum">
              <a:rPr b="0" lang="en-US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5e1ec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5e1ec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5e1e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5e1e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7127-E9F7-4C86-98B8-B9A6AC6BA1D2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61DD-7800-4BD0-A486-506CFDA9AB3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astrologers-online.com/linda_black.php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www.8seconds.net/userfiles/files/2009/07/fortune_teller.jpg"/>
          <p:cNvPicPr/>
          <p:nvPr/>
        </p:nvPicPr>
        <p:blipFill>
          <a:blip r:embed="rId1"/>
          <a:srcRect l="10872" t="13460" r="9839" b="0"/>
          <a:stretch/>
        </p:blipFill>
        <p:spPr>
          <a:xfrm>
            <a:off x="-228600" y="-228600"/>
            <a:ext cx="9991800" cy="7253280"/>
          </a:xfrm>
          <a:prstGeom prst="rect">
            <a:avLst/>
          </a:prstGeom>
          <a:ln w="0">
            <a:noFill/>
          </a:ln>
        </p:spPr>
      </p:pic>
      <p:pic>
        <p:nvPicPr>
          <p:cNvPr id="228" name="Title 1" descr=""/>
          <p:cNvPicPr/>
          <p:nvPr/>
        </p:nvPicPr>
        <p:blipFill>
          <a:blip r:embed="rId2"/>
          <a:stretch/>
        </p:blipFill>
        <p:spPr>
          <a:xfrm>
            <a:off x="682560" y="3956040"/>
            <a:ext cx="6986520" cy="11588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8380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lleen Kempf &amp;</a:t>
            </a:r>
            <a:endParaRPr b="0" lang="en-US" sz="2400" spc="-1" strike="noStrike">
              <a:solidFill>
                <a:srgbClr val="f5e1ec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nielle Zolotnitsky</a:t>
            </a:r>
            <a:endParaRPr b="0" lang="en-US" sz="24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30" name="5-Point Star 4"/>
          <p:cNvSpPr/>
          <p:nvPr/>
        </p:nvSpPr>
        <p:spPr>
          <a:xfrm rot="534000">
            <a:off x="4618080" y="3368160"/>
            <a:ext cx="723960" cy="654120"/>
          </a:xfrm>
          <a:custGeom>
            <a:avLst/>
            <a:gdLst>
              <a:gd name="textAreaLeft" fmla="*/ 223560 w 723960"/>
              <a:gd name="textAreaRight" fmla="*/ 500400 w 723960"/>
              <a:gd name="textAreaTop" fmla="*/ 249840 h 654120"/>
              <a:gd name="textAreaBottom" fmla="*/ 499680 h 654120"/>
            </a:gdLst>
            <a:ahLst/>
            <a:rect l="textAreaLeft" t="textAreaTop" r="textAreaRight" b="textAreaBottom"/>
            <a:pathLst>
              <a:path w="723900" h="654050">
                <a:moveTo>
                  <a:pt x="1" y="249824"/>
                </a:moveTo>
                <a:lnTo>
                  <a:pt x="276507" y="249826"/>
                </a:lnTo>
                <a:lnTo>
                  <a:pt x="361950" y="0"/>
                </a:lnTo>
                <a:lnTo>
                  <a:pt x="447393" y="249826"/>
                </a:lnTo>
                <a:lnTo>
                  <a:pt x="723899" y="249824"/>
                </a:lnTo>
                <a:lnTo>
                  <a:pt x="500200" y="404223"/>
                </a:lnTo>
                <a:lnTo>
                  <a:pt x="585648" y="654048"/>
                </a:lnTo>
                <a:lnTo>
                  <a:pt x="361950" y="499646"/>
                </a:lnTo>
                <a:lnTo>
                  <a:pt x="138252" y="654048"/>
                </a:lnTo>
                <a:lnTo>
                  <a:pt x="223700" y="404223"/>
                </a:lnTo>
                <a:close/>
              </a:path>
            </a:pathLst>
          </a:custGeom>
          <a:solidFill>
            <a:srgbClr val="000000"/>
          </a:solidFill>
          <a:ln w="39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231" name="5-Point Star 5"/>
          <p:cNvSpPr/>
          <p:nvPr/>
        </p:nvSpPr>
        <p:spPr>
          <a:xfrm rot="595800">
            <a:off x="5267160" y="3800520"/>
            <a:ext cx="489240" cy="428760"/>
          </a:xfrm>
          <a:custGeom>
            <a:avLst/>
            <a:gdLst>
              <a:gd name="textAreaLeft" fmla="*/ 151200 w 489240"/>
              <a:gd name="textAreaRight" fmla="*/ 338040 w 4892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488950" h="428625">
                <a:moveTo>
                  <a:pt x="1" y="163720"/>
                </a:moveTo>
                <a:lnTo>
                  <a:pt x="186763" y="163721"/>
                </a:lnTo>
                <a:lnTo>
                  <a:pt x="244475" y="0"/>
                </a:lnTo>
                <a:lnTo>
                  <a:pt x="302187" y="163721"/>
                </a:lnTo>
                <a:lnTo>
                  <a:pt x="488949" y="163720"/>
                </a:lnTo>
                <a:lnTo>
                  <a:pt x="337855" y="264903"/>
                </a:lnTo>
                <a:lnTo>
                  <a:pt x="395569" y="428624"/>
                </a:lnTo>
                <a:lnTo>
                  <a:pt x="244475" y="327438"/>
                </a:lnTo>
                <a:lnTo>
                  <a:pt x="93381" y="428624"/>
                </a:lnTo>
                <a:lnTo>
                  <a:pt x="151095" y="264903"/>
                </a:lnTo>
                <a:close/>
              </a:path>
            </a:pathLst>
          </a:custGeom>
          <a:solidFill>
            <a:srgbClr val="000000"/>
          </a:solidFill>
          <a:ln w="39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232" name="5-Point Star 6"/>
          <p:cNvSpPr/>
          <p:nvPr/>
        </p:nvSpPr>
        <p:spPr>
          <a:xfrm rot="20473200">
            <a:off x="5436720" y="3416040"/>
            <a:ext cx="250920" cy="206280"/>
          </a:xfrm>
          <a:custGeom>
            <a:avLst/>
            <a:gdLst>
              <a:gd name="textAreaLeft" fmla="*/ 77400 w 250920"/>
              <a:gd name="textAreaRight" fmla="*/ 173520 w 250920"/>
              <a:gd name="textAreaTop" fmla="*/ 78840 h 206280"/>
              <a:gd name="textAreaBottom" fmla="*/ 157680 h 206280"/>
            </a:gdLst>
            <a:ahLst/>
            <a:rect l="textAreaLeft" t="textAreaTop" r="textAreaRight" b="textAreaBottom"/>
            <a:pathLst>
              <a:path w="250825" h="206375">
                <a:moveTo>
                  <a:pt x="0" y="78828"/>
                </a:moveTo>
                <a:lnTo>
                  <a:pt x="95807" y="78829"/>
                </a:lnTo>
                <a:lnTo>
                  <a:pt x="125413" y="0"/>
                </a:lnTo>
                <a:lnTo>
                  <a:pt x="155018" y="78829"/>
                </a:lnTo>
                <a:lnTo>
                  <a:pt x="250825" y="78828"/>
                </a:lnTo>
                <a:lnTo>
                  <a:pt x="173315" y="127546"/>
                </a:lnTo>
                <a:lnTo>
                  <a:pt x="202922" y="206374"/>
                </a:lnTo>
                <a:lnTo>
                  <a:pt x="125413" y="157655"/>
                </a:lnTo>
                <a:lnTo>
                  <a:pt x="47903" y="206374"/>
                </a:lnTo>
                <a:lnTo>
                  <a:pt x="77510" y="127546"/>
                </a:lnTo>
                <a:close/>
              </a:path>
            </a:pathLst>
          </a:custGeom>
          <a:solidFill>
            <a:srgbClr val="000000"/>
          </a:solidFill>
          <a:ln w="39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9"/>
          <p:cNvSpPr/>
          <p:nvPr/>
        </p:nvSpPr>
        <p:spPr>
          <a:xfrm>
            <a:off x="0" y="4876920"/>
            <a:ext cx="8153280" cy="1981080"/>
          </a:xfrm>
          <a:prstGeom prst="rect">
            <a:avLst/>
          </a:prstGeom>
          <a:solidFill>
            <a:srgbClr val="fef0d7"/>
          </a:solidFill>
          <a:ln w="399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hi-Square Goodness of Fit Test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onditions: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e6ef"/>
                </a:solidFill>
                <a:latin typeface="Trebuchet MS"/>
              </a:rPr>
              <a:t>Categorical data </a:t>
            </a:r>
            <a:r>
              <a:rPr b="0" lang="en-US" sz="2000" spc="-1" strike="noStrike">
                <a:solidFill>
                  <a:srgbClr val="f7e6ef"/>
                </a:solidFill>
                <a:latin typeface="Trebuchet MS"/>
              </a:rPr>
              <a:t>--- Horoscope ratings are categorical</a:t>
            </a:r>
            <a:endParaRPr b="0" lang="en-US" sz="2000" spc="-1" strike="noStrike">
              <a:solidFill>
                <a:srgbClr val="f7e6ef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e6ef"/>
                </a:solidFill>
                <a:latin typeface="Trebuchet MS"/>
              </a:rPr>
              <a:t>SRS</a:t>
            </a:r>
            <a:r>
              <a:rPr b="0" lang="en-US" sz="2000" spc="-1" strike="noStrike">
                <a:solidFill>
                  <a:srgbClr val="f7e6ef"/>
                </a:solidFill>
                <a:latin typeface="Trebuchet MS"/>
              </a:rPr>
              <a:t> --- 600 random ratings</a:t>
            </a:r>
            <a:endParaRPr b="0" lang="en-US" sz="2000" spc="-1" strike="noStrike">
              <a:solidFill>
                <a:srgbClr val="f7e6ef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e6ef"/>
                </a:solidFill>
                <a:latin typeface="Trebuchet MS"/>
              </a:rPr>
              <a:t>All cell counts &gt; 5 </a:t>
            </a:r>
            <a:r>
              <a:rPr b="0" lang="en-US" sz="2000" spc="-1" strike="noStrike">
                <a:solidFill>
                  <a:srgbClr val="f7e6ef"/>
                </a:solidFill>
                <a:latin typeface="Trebuchet MS"/>
              </a:rPr>
              <a:t>--- all exp. cell counts &gt; 5</a:t>
            </a:r>
            <a:endParaRPr b="0" lang="en-US" sz="2000" spc="-1" strike="noStrike">
              <a:solidFill>
                <a:srgbClr val="f7e6ef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All conditions met &gt;&gt; </a:t>
            </a:r>
            <a:r>
              <a:rPr b="0" i="1" lang="el-GR" sz="2000" spc="-1" strike="noStrike">
                <a:solidFill>
                  <a:srgbClr val="f5e1ec"/>
                </a:solidFill>
                <a:latin typeface="Trebuchet MS"/>
              </a:rPr>
              <a:t>χ</a:t>
            </a:r>
            <a:r>
              <a:rPr b="1" i="1" lang="el-GR" sz="2000" spc="-1" strike="noStrike">
                <a:solidFill>
                  <a:srgbClr val="f5e1ec"/>
                </a:solidFill>
                <a:latin typeface="Trebuchet MS"/>
              </a:rPr>
              <a:t>²</a:t>
            </a:r>
            <a:r>
              <a:rPr b="1" i="1" lang="en-US" sz="2000" spc="-1" strike="noStrike">
                <a:solidFill>
                  <a:srgbClr val="f5e1ec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distribution &gt;&gt; </a:t>
            </a:r>
            <a:r>
              <a:rPr b="0" i="1" lang="el-GR" sz="2000" spc="-1" strike="noStrike">
                <a:solidFill>
                  <a:srgbClr val="f5e1ec"/>
                </a:solidFill>
                <a:latin typeface="Trebuchet MS"/>
              </a:rPr>
              <a:t>χ</a:t>
            </a:r>
            <a:r>
              <a:rPr b="1" i="1" lang="el-GR" sz="2000" spc="-1" strike="noStrike">
                <a:solidFill>
                  <a:srgbClr val="f5e1ec"/>
                </a:solidFill>
                <a:latin typeface="Trebuchet MS"/>
              </a:rPr>
              <a:t>²</a:t>
            </a:r>
            <a:r>
              <a:rPr b="1" i="1" lang="en-US" sz="2000" spc="-1" strike="noStrike">
                <a:solidFill>
                  <a:srgbClr val="f5e1ec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GOF test</a:t>
            </a:r>
            <a:endParaRPr b="0" lang="en-US" sz="20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Hypotheses: </a:t>
            </a: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Ho: Ratings are uniformly distributed</a:t>
            </a:r>
            <a:br>
              <a:rPr sz="2000"/>
            </a:b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    Ha: Ratings are not uniformly distributed</a:t>
            </a:r>
            <a:endParaRPr b="0" lang="en-US" sz="20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262" name="Picture 2" descr="http://www.stat.yale.edu/Courses/1997-98/101/chi.gif"/>
          <p:cNvPicPr/>
          <p:nvPr/>
        </p:nvPicPr>
        <p:blipFill>
          <a:blip r:embed="rId2"/>
          <a:stretch/>
        </p:blipFill>
        <p:spPr>
          <a:xfrm>
            <a:off x="63360" y="-136440"/>
            <a:ext cx="266760" cy="247680"/>
          </a:xfrm>
          <a:prstGeom prst="rect">
            <a:avLst/>
          </a:prstGeom>
          <a:ln w="0">
            <a:noFill/>
          </a:ln>
        </p:spPr>
      </p:pic>
      <p:sp>
        <p:nvSpPr>
          <p:cNvPr id="263" name="Content Placeholder 2"/>
          <p:cNvSpPr/>
          <p:nvPr/>
        </p:nvSpPr>
        <p:spPr>
          <a:xfrm>
            <a:off x="0" y="48006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+                  </a:t>
            </a: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= 352.2</a:t>
            </a: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P (     &gt;352.2|df=6)=0.0001</a:t>
            </a: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Bell MT"/>
              </a:rPr>
              <a:t> </a:t>
            </a: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304920" y="5029200"/>
                <a:ext cx="2184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65" name="Object 13"/>
          <p:cNvGraphicFramePr/>
          <p:nvPr/>
        </p:nvGraphicFramePr>
        <p:xfrm>
          <a:off x="4724280" y="5181480"/>
          <a:ext cx="1676520" cy="6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5181480"/>
                    <a:ext cx="16765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4"/>
          <p:cNvGraphicFramePr/>
          <p:nvPr/>
        </p:nvGraphicFramePr>
        <p:xfrm>
          <a:off x="2590920" y="5105520"/>
          <a:ext cx="1828800" cy="68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5105520"/>
                    <a:ext cx="1828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9" name="Object 15"/>
              <p:cNvSpPr txBox="1"/>
              <p:nvPr/>
            </p:nvSpPr>
            <p:spPr>
              <a:xfrm>
                <a:off x="457200" y="6172200"/>
                <a:ext cx="507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380520" y="152352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We reject the Ho because the p-value of 0.001</a:t>
            </a:r>
            <a:r>
              <a:rPr b="0" lang="en-US" sz="2400" spc="-1" strike="noStrike">
                <a:solidFill>
                  <a:srgbClr val="f5e1ec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is less than the alpha value of .05. We have sufficient evidence that ratings are not uniformly distributed. 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272" name="Picture 6" descr="horoscope-trines"/>
          <p:cNvPicPr/>
          <p:nvPr/>
        </p:nvPicPr>
        <p:blipFill>
          <a:blip r:embed="rId2"/>
          <a:stretch/>
        </p:blipFill>
        <p:spPr>
          <a:xfrm>
            <a:off x="2514600" y="35812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328680" y="189000"/>
            <a:ext cx="7351560" cy="1249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5029200" cy="4106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2514600" cy="403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212760" y="29844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hi-Square Independence test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onditions: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e6ef"/>
                </a:solidFill>
                <a:latin typeface="Trebuchet MS"/>
              </a:rPr>
              <a:t>2 Independent SRS</a:t>
            </a:r>
            <a:r>
              <a:rPr b="0" lang="en-US" sz="2000" spc="-1" strike="noStrike">
                <a:solidFill>
                  <a:srgbClr val="f7e6ef"/>
                </a:solidFill>
                <a:latin typeface="Trebuchet MS"/>
              </a:rPr>
              <a:t>--- yes, known</a:t>
            </a:r>
            <a:endParaRPr b="0" lang="en-US" sz="2000" spc="-1" strike="noStrike">
              <a:solidFill>
                <a:srgbClr val="f7e6ef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e6ef"/>
                </a:solidFill>
                <a:latin typeface="Trebuchet MS"/>
              </a:rPr>
              <a:t>All cell counts &gt; 5 </a:t>
            </a:r>
            <a:r>
              <a:rPr b="0" lang="en-US" sz="2000" spc="-1" strike="noStrike">
                <a:solidFill>
                  <a:srgbClr val="f7e6ef"/>
                </a:solidFill>
                <a:latin typeface="Trebuchet MS"/>
              </a:rPr>
              <a:t>--- all exp. cell counts &gt; 5</a:t>
            </a:r>
            <a:endParaRPr b="0" lang="en-US" sz="2000" spc="-1" strike="noStrike">
              <a:solidFill>
                <a:srgbClr val="f7e6ef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All conditions met &gt;&gt; </a:t>
            </a:r>
            <a:r>
              <a:rPr b="0" i="1" lang="el-GR" sz="2000" spc="-1" strike="noStrike">
                <a:solidFill>
                  <a:srgbClr val="f5e1ec"/>
                </a:solidFill>
                <a:latin typeface="Trebuchet MS"/>
              </a:rPr>
              <a:t>χ</a:t>
            </a:r>
            <a:r>
              <a:rPr b="1" i="1" lang="el-GR" sz="2000" spc="-1" strike="noStrike">
                <a:solidFill>
                  <a:srgbClr val="f5e1ec"/>
                </a:solidFill>
                <a:latin typeface="Trebuchet MS"/>
              </a:rPr>
              <a:t>²</a:t>
            </a:r>
            <a:r>
              <a:rPr b="1" i="1" lang="en-US" sz="2000" spc="-1" strike="noStrike">
                <a:solidFill>
                  <a:srgbClr val="f5e1ec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distribution &gt;&gt; </a:t>
            </a:r>
            <a:r>
              <a:rPr b="0" i="1" lang="el-GR" sz="2000" spc="-1" strike="noStrike">
                <a:solidFill>
                  <a:srgbClr val="f5e1ec"/>
                </a:solidFill>
                <a:latin typeface="Trebuchet MS"/>
              </a:rPr>
              <a:t>χ</a:t>
            </a:r>
            <a:r>
              <a:rPr b="1" i="1" lang="el-GR" sz="2000" spc="-1" strike="noStrike">
                <a:solidFill>
                  <a:srgbClr val="f5e1ec"/>
                </a:solidFill>
                <a:latin typeface="Trebuchet MS"/>
              </a:rPr>
              <a:t>²</a:t>
            </a:r>
            <a:r>
              <a:rPr b="1" i="1" lang="en-US" sz="2000" spc="-1" strike="noStrike">
                <a:solidFill>
                  <a:srgbClr val="f5e1ec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Independence test</a:t>
            </a:r>
            <a:endParaRPr b="0" lang="en-US" sz="20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Hypotheses: </a:t>
            </a: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Ho: There is no association between sign and rating</a:t>
            </a:r>
            <a:br>
              <a:rPr sz="1500"/>
            </a:b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	</a:t>
            </a: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	</a:t>
            </a: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      Ha: There is an association between sign and rating</a:t>
            </a:r>
            <a:endParaRPr b="0" lang="en-US" sz="15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0" y="4876920"/>
            <a:ext cx="8153280" cy="1981080"/>
          </a:xfrm>
          <a:prstGeom prst="rect">
            <a:avLst/>
          </a:prstGeom>
          <a:solidFill>
            <a:srgbClr val="fef0d7"/>
          </a:solidFill>
          <a:ln w="399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279" name="Content Placeholder 2"/>
          <p:cNvSpPr/>
          <p:nvPr/>
        </p:nvSpPr>
        <p:spPr>
          <a:xfrm>
            <a:off x="0" y="48006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                                                            </a:t>
            </a: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=37.38</a:t>
            </a: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P(    &gt;37.38|df=33)=0.27</a:t>
            </a: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304920" y="5029200"/>
                <a:ext cx="2184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81" name="Object 9"/>
          <p:cNvGraphicFramePr/>
          <p:nvPr/>
        </p:nvGraphicFramePr>
        <p:xfrm>
          <a:off x="4952880" y="5029200"/>
          <a:ext cx="1828800" cy="73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5029200"/>
                    <a:ext cx="18288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10"/>
          <p:cNvGraphicFramePr/>
          <p:nvPr/>
        </p:nvGraphicFramePr>
        <p:xfrm>
          <a:off x="2895480" y="4952880"/>
          <a:ext cx="1905120" cy="75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4952880"/>
                    <a:ext cx="190512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5" name="Object 11"/>
              <p:cNvSpPr txBox="1"/>
              <p:nvPr/>
            </p:nvSpPr>
            <p:spPr>
              <a:xfrm>
                <a:off x="457200" y="6095880"/>
                <a:ext cx="507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380520" y="152352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We fail to reject the Ho because the p-value of 0.27 is greater than the alpha value of .05. We have sufficient evidence that there is no association between sign and rating.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288" name="Picture 7" descr="horoscope-trines"/>
          <p:cNvPicPr/>
          <p:nvPr/>
        </p:nvPicPr>
        <p:blipFill>
          <a:blip r:embed="rId2"/>
          <a:stretch/>
        </p:blipFill>
        <p:spPr>
          <a:xfrm>
            <a:off x="2590920" y="388620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800600" cy="4353120"/>
          </a:xfrm>
          <a:prstGeom prst="rect">
            <a:avLst/>
          </a:prstGeom>
          <a:ln w="0">
            <a:noFill/>
          </a:ln>
        </p:spPr>
      </p:pic>
      <p:pic>
        <p:nvPicPr>
          <p:cNvPr id="290" name="Title 1" descr=""/>
          <p:cNvPicPr/>
          <p:nvPr/>
        </p:nvPicPr>
        <p:blipFill>
          <a:blip r:embed="rId2"/>
          <a:stretch/>
        </p:blipFill>
        <p:spPr>
          <a:xfrm>
            <a:off x="328680" y="189000"/>
            <a:ext cx="7351560" cy="124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1" descr=""/>
          <p:cNvPicPr/>
          <p:nvPr/>
        </p:nvPicPr>
        <p:blipFill>
          <a:blip r:embed="rId1"/>
          <a:stretch/>
        </p:blipFill>
        <p:spPr>
          <a:xfrm>
            <a:off x="328680" y="189000"/>
            <a:ext cx="7351560" cy="1249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"/>
          <p:cNvPicPr/>
          <p:nvPr/>
        </p:nvPicPr>
        <p:blipFill>
          <a:blip r:embed="rId2"/>
          <a:stretch/>
        </p:blipFill>
        <p:spPr>
          <a:xfrm>
            <a:off x="0" y="2057400"/>
            <a:ext cx="8077320" cy="28954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6"/>
          <p:cNvSpPr/>
          <p:nvPr/>
        </p:nvSpPr>
        <p:spPr>
          <a:xfrm>
            <a:off x="2133720" y="5334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66"/>
                </a:solidFill>
                <a:latin typeface="Arial"/>
              </a:rPr>
              <a:t>What’s your sign’s mean rating?</a:t>
            </a:r>
            <a:endParaRPr b="0" lang="en-US" sz="2400" spc="-1" strike="noStrike">
              <a:solidFill>
                <a:srgbClr val="f5e1ec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hi-Square Independence test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onditions: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e6ef"/>
                </a:solidFill>
                <a:latin typeface="Trebuchet MS"/>
              </a:rPr>
              <a:t>2 Independent SRS</a:t>
            </a:r>
            <a:r>
              <a:rPr b="0" lang="en-US" sz="2000" spc="-1" strike="noStrike">
                <a:solidFill>
                  <a:srgbClr val="f7e6ef"/>
                </a:solidFill>
                <a:latin typeface="Trebuchet MS"/>
              </a:rPr>
              <a:t>--- yes, known</a:t>
            </a:r>
            <a:endParaRPr b="0" lang="en-US" sz="2000" spc="-1" strike="noStrike">
              <a:solidFill>
                <a:srgbClr val="f7e6ef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e6ef"/>
                </a:solidFill>
                <a:latin typeface="Trebuchet MS"/>
              </a:rPr>
              <a:t>All cell counts &gt; 5 </a:t>
            </a:r>
            <a:r>
              <a:rPr b="0" lang="en-US" sz="2000" spc="-1" strike="noStrike">
                <a:solidFill>
                  <a:srgbClr val="f7e6ef"/>
                </a:solidFill>
                <a:latin typeface="Trebuchet MS"/>
              </a:rPr>
              <a:t>--- all exp. cell counts &gt; 5</a:t>
            </a:r>
            <a:endParaRPr b="0" lang="en-US" sz="2000" spc="-1" strike="noStrike">
              <a:solidFill>
                <a:srgbClr val="f7e6ef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All conditions met &gt;&gt; </a:t>
            </a:r>
            <a:r>
              <a:rPr b="0" i="1" lang="el-GR" sz="2000" spc="-1" strike="noStrike">
                <a:solidFill>
                  <a:srgbClr val="f5e1ec"/>
                </a:solidFill>
                <a:latin typeface="Trebuchet MS"/>
              </a:rPr>
              <a:t>χ</a:t>
            </a:r>
            <a:r>
              <a:rPr b="1" i="1" lang="el-GR" sz="2000" spc="-1" strike="noStrike">
                <a:solidFill>
                  <a:srgbClr val="f5e1ec"/>
                </a:solidFill>
                <a:latin typeface="Trebuchet MS"/>
              </a:rPr>
              <a:t>²</a:t>
            </a:r>
            <a:r>
              <a:rPr b="1" i="1" lang="en-US" sz="2000" spc="-1" strike="noStrike">
                <a:solidFill>
                  <a:srgbClr val="f5e1ec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distribution &gt;&gt; </a:t>
            </a:r>
            <a:r>
              <a:rPr b="0" i="1" lang="el-GR" sz="2000" spc="-1" strike="noStrike">
                <a:solidFill>
                  <a:srgbClr val="f5e1ec"/>
                </a:solidFill>
                <a:latin typeface="Trebuchet MS"/>
              </a:rPr>
              <a:t>χ</a:t>
            </a:r>
            <a:r>
              <a:rPr b="1" i="1" lang="el-GR" sz="2000" spc="-1" strike="noStrike">
                <a:solidFill>
                  <a:srgbClr val="f5e1ec"/>
                </a:solidFill>
                <a:latin typeface="Trebuchet MS"/>
              </a:rPr>
              <a:t>²</a:t>
            </a:r>
            <a:r>
              <a:rPr b="1" i="1" lang="en-US" sz="2000" spc="-1" strike="noStrike">
                <a:solidFill>
                  <a:srgbClr val="f5e1ec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Independence test</a:t>
            </a:r>
            <a:endParaRPr b="0" lang="en-US" sz="20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Hypotheses: </a:t>
            </a: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Ho: There is no association between sign and area</a:t>
            </a:r>
            <a:br>
              <a:rPr sz="1500"/>
            </a:b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	</a:t>
            </a: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	</a:t>
            </a: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      Ha: There is an association between sign and area</a:t>
            </a:r>
            <a:endParaRPr b="0" lang="en-US" sz="15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0" y="4876920"/>
            <a:ext cx="8153280" cy="1981080"/>
          </a:xfrm>
          <a:prstGeom prst="rect">
            <a:avLst/>
          </a:prstGeom>
          <a:solidFill>
            <a:srgbClr val="fef0d7"/>
          </a:solidFill>
          <a:ln w="399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297" name="Content Placeholder 2"/>
          <p:cNvSpPr/>
          <p:nvPr/>
        </p:nvSpPr>
        <p:spPr>
          <a:xfrm>
            <a:off x="0" y="48006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                                                             </a:t>
            </a: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=32.04</a:t>
            </a: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P(     &gt;32.04|df=55)=.99</a:t>
            </a: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304920" y="5029200"/>
                <a:ext cx="2184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99" name="Object 3"/>
          <p:cNvGraphicFramePr/>
          <p:nvPr/>
        </p:nvGraphicFramePr>
        <p:xfrm>
          <a:off x="2701800" y="5029200"/>
          <a:ext cx="1605240" cy="7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1800" y="5029200"/>
                    <a:ext cx="160524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4"/>
          <p:cNvGraphicFramePr/>
          <p:nvPr/>
        </p:nvGraphicFramePr>
        <p:xfrm>
          <a:off x="4867200" y="5029200"/>
          <a:ext cx="1693800" cy="750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67200" y="5029200"/>
                    <a:ext cx="169380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3" name="Object 9"/>
              <p:cNvSpPr txBox="1"/>
              <p:nvPr/>
            </p:nvSpPr>
            <p:spPr>
              <a:xfrm>
                <a:off x="457200" y="6095880"/>
                <a:ext cx="507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We fail to reject the Ho because the p-value of 0.99 is greater than the alpha value of .05. We have sufficient evidence that there is no association between sign and area.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306" name="Picture 6" descr="horoscope-trines"/>
          <p:cNvPicPr/>
          <p:nvPr/>
        </p:nvPicPr>
        <p:blipFill>
          <a:blip r:embed="rId2"/>
          <a:stretch/>
        </p:blipFill>
        <p:spPr>
          <a:xfrm>
            <a:off x="2590920" y="388620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328680" y="189000"/>
            <a:ext cx="7351560" cy="12492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6019920" cy="491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61508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276360" y="1523880"/>
            <a:ext cx="4800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Ancient Greeks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Position of sun, moon, and planets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Possible influences/not the future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Phone and facebook apps, websites, newspapers, etc.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LA Times, Psychic Linda Black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Rate each day on a scale of 1-10 and give prediction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235" name="Picture 2" descr="Linda Black : Astrology, Daily Horoscopes and Annotated Aspectaria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2057400"/>
            <a:ext cx="2057400" cy="28465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"/>
          <p:cNvSpPr/>
          <p:nvPr/>
        </p:nvSpPr>
        <p:spPr>
          <a:xfrm>
            <a:off x="83808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1ec"/>
                </a:solidFill>
                <a:latin typeface="Trebuchet MS"/>
              </a:rPr>
              <a:t>Linda Black</a:t>
            </a: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328680" y="189000"/>
            <a:ext cx="7351560" cy="1249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876560" cy="39830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"/>
          <p:cNvPicPr/>
          <p:nvPr/>
        </p:nvPicPr>
        <p:blipFill>
          <a:blip r:embed="rId3"/>
          <a:stretch/>
        </p:blipFill>
        <p:spPr>
          <a:xfrm>
            <a:off x="5410080" y="2133720"/>
            <a:ext cx="2522520" cy="3962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5e1ec"/>
                </a:solidFill>
                <a:latin typeface="Trebuchet MS"/>
              </a:rPr>
              <a:t>Application to Population</a:t>
            </a: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The ratings of horoscopes are not evenly distributed; they are quite inflated toward the positive side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Each sign has a different “personality”, but that does not warrant for an association between sign and rating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All because one is a specific sign, they cannot expect more horoscopes based upon a certain genre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ome could have discrepancies with our scale of goodness; very high (9-10), high (7-8), medium (5-6), and low (4)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Areas fall under two categories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No days below a “4”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316" name="Picture 2" descr="http://3.bp.blogspot.com/_toa6AO6fij0/THSQF6J5Y3I/AAAAAAAAALU/-HdksOSQykc/s1600/horoscope.jpg"/>
          <p:cNvPicPr/>
          <p:nvPr/>
        </p:nvPicPr>
        <p:blipFill>
          <a:blip r:embed="rId2"/>
          <a:stretch/>
        </p:blipFill>
        <p:spPr>
          <a:xfrm>
            <a:off x="4800600" y="4038480"/>
            <a:ext cx="2438280" cy="242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We don’t believe in horoscopes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No rating below 4, don’t want to give people negative days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laim that each zodiac sign makes a person different, but according to this study, all areas of concern and daily ratings are roughly the same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319" name="Picture 2" descr="http://all-silhouettes.com/wp-content/uploads/2009/06/vectorzodiacsigns.jpg"/>
          <p:cNvPicPr/>
          <p:nvPr/>
        </p:nvPicPr>
        <p:blipFill>
          <a:blip r:embed="rId2"/>
          <a:srcRect l="0" t="0" r="0" b="18076"/>
          <a:stretch/>
        </p:blipFill>
        <p:spPr>
          <a:xfrm>
            <a:off x="2133720" y="4743360"/>
            <a:ext cx="4190760" cy="211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5e1ec"/>
                </a:solidFill>
                <a:latin typeface="Trebuchet MS"/>
              </a:rPr>
              <a:t>Activity-Yesterday’s Horoscope</a:t>
            </a: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3152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5e1ec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f5e1ec"/>
                </a:solidFill>
                <a:latin typeface="Trebuchet MS"/>
              </a:rPr>
              <a:t>Today's birthday (01/09/11). Your generous nature springs up this year. Your leadership skills are sprouting, even if you didn't know you had them. Together they provide an excellent frame for making a difference in your world. You don't have to do it all alone. And don't forget to take care of yourself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5e1ec"/>
                </a:solidFill>
                <a:latin typeface="Trebuchet MS"/>
              </a:rPr>
              <a:t>Aries (March 21-April 19) -- Today is a 5 -- It's a great day to focus on completing the projects at work that you've been procrastinating about. Take time to organize, and it goes faster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5e1ec"/>
                </a:solidFill>
                <a:latin typeface="Trebuchet MS"/>
              </a:rPr>
              <a:t>Taurus (April 20-May 20) -- Today is an 8 -- Work produces additional exciting income opportunities. You may have to travel. Take special care of your health, and don't forget to breathe.</a:t>
            </a:r>
            <a:br>
              <a:rPr sz="1400"/>
            </a:br>
            <a:endParaRPr b="0" lang="en-US" sz="14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5e1ec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f5e1ec"/>
                </a:solidFill>
                <a:latin typeface="Trebuchet MS"/>
              </a:rPr>
              <a:t>Gemini (May 21-June 21) -- Today is an 8 -- Align your decisions logically, and support them with facts. Eat healthy, delicious foods, avoiding fish with high mercury content. Nurture yourself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5e1ec"/>
                </a:solidFill>
                <a:latin typeface="Trebuchet MS"/>
              </a:rPr>
              <a:t>Cancer (June 22-July 22) -- Today is a 7 -- Look first and then spring into action. Go on a trip, maybe. Take a bike ride. Let the wind blow in your face. Take it all in as you play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5e1ec"/>
                </a:solidFill>
                <a:latin typeface="Trebuchet MS"/>
              </a:rPr>
              <a:t>Leo (July 23-Aug. 22) -- Today is a 5 -- It's a great day to finish projects at home, whether fixing a hole where the rain gets in, or just doing the laundry. Archive family photos to share, maybe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5e1ec"/>
                </a:solidFill>
                <a:latin typeface="Trebuchet MS"/>
              </a:rPr>
              <a:t>Virgo (Aug. 23-Sept. 22) -- Today is a 6 -- A problem is solved with logic, and you learn from any mistakes. Get assistance from a loved one. It's a good day for romance. Light some candles.</a:t>
            </a:r>
            <a:br>
              <a:rPr sz="1400"/>
            </a:br>
            <a:br>
              <a:rPr sz="1000"/>
            </a:br>
            <a:endParaRPr b="0" lang="en-US" sz="1400" spc="-1" strike="noStrike">
              <a:solidFill>
                <a:srgbClr val="f5e1ec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	</a:t>
            </a: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Libra (Sept. 23-Oct. 22) -- Today is a 6 -- Words come easily today, including standards like "thanks" and "I love you." Use them to add flavor and appreciation to projects, relationships and mealtimes.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Scorpio (Oct. 23-Nov. 21) -- Today is an 8 -- You don't need to travel far. Use your imagination to go anywhere you want. It's a great day to write down a business plan or invent new possibilities.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Sagittarius (Nov. 22-Dec. 21) -- Today is an 8 -- Opportunity knocks, so open the door. You may just fall in love all over again. Everything's lining up, and you're producing with ease and grace.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Capricorn (Dec. 22-Jan. 19) -- Today is a 6 -- You find the energy to do something you always wanted to do. It's a time for renewal and deeper understanding of yourself, so allow this splurge.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Aquarius (Jan. 20-Feb. 18) -- Today is a 7 -- A career opportunity shows up. Make sure that it's for real and not just an illusion. Money could be coming your way.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Pisces (Feb. 19-March 20) -- Today is a 6 -- Life is good. You can handle all obstacles today. It's a great time to find lost friends. Others want what you have. Share, but also be willing to accept.</a:t>
            </a:r>
            <a:br>
              <a:rPr sz="1500"/>
            </a:br>
            <a:br>
              <a:rPr sz="1000"/>
            </a:br>
            <a:endParaRPr b="0" lang="en-US" sz="15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5e1ec"/>
                </a:solidFill>
                <a:latin typeface="Trebuchet MS"/>
              </a:rPr>
              <a:t>Activity-Yesterday’s Horoscope</a:t>
            </a: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rcRect l="29933" t="22978" r="44219" b="6880"/>
          <a:stretch/>
        </p:blipFill>
        <p:spPr>
          <a:xfrm>
            <a:off x="380880" y="533520"/>
            <a:ext cx="3810240" cy="5814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"/>
          <a:srcRect l="54167" t="27409" r="11250" b="11111"/>
          <a:stretch/>
        </p:blipFill>
        <p:spPr>
          <a:xfrm>
            <a:off x="4419720" y="1066680"/>
            <a:ext cx="4495680" cy="4496040"/>
          </a:xfrm>
          <a:prstGeom prst="rect">
            <a:avLst/>
          </a:prstGeom>
          <a:ln w="0">
            <a:noFill/>
          </a:ln>
        </p:spPr>
      </p:pic>
      <p:pic>
        <p:nvPicPr>
          <p:cNvPr id="239" name="Title 1" descr=""/>
          <p:cNvPicPr/>
          <p:nvPr/>
        </p:nvPicPr>
        <p:blipFill>
          <a:blip r:embed="rId3"/>
          <a:stretch/>
        </p:blipFill>
        <p:spPr>
          <a:xfrm>
            <a:off x="5315040" y="341280"/>
            <a:ext cx="2878200" cy="731880"/>
          </a:xfrm>
          <a:prstGeom prst="rect">
            <a:avLst/>
          </a:prstGeom>
          <a:ln w="0">
            <a:noFill/>
          </a:ln>
        </p:spPr>
      </p:pic>
      <p:pic>
        <p:nvPicPr>
          <p:cNvPr id="240" name="Title 1" descr=""/>
          <p:cNvPicPr/>
          <p:nvPr/>
        </p:nvPicPr>
        <p:blipFill>
          <a:blip r:embed="rId4"/>
          <a:stretch/>
        </p:blipFill>
        <p:spPr>
          <a:xfrm>
            <a:off x="4022640" y="5254560"/>
            <a:ext cx="7493040" cy="11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6840" y="1609200"/>
            <a:ext cx="76201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Are all the different ratings from 4-10 equally likely to occur overall?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Does zodiac sign affect the rating?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Does zodiac sign affect which areas of life are of most concern?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243" name="Picture 2" descr="Zodiac Sign"/>
          <p:cNvPicPr/>
          <p:nvPr/>
        </p:nvPicPr>
        <p:blipFill>
          <a:blip r:embed="rId2"/>
          <a:stretch/>
        </p:blipFill>
        <p:spPr>
          <a:xfrm>
            <a:off x="3505320" y="3505320"/>
            <a:ext cx="4038480" cy="3038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Tree Silhouette Against Starry Night Sky"/>
          <p:cNvPicPr/>
          <p:nvPr/>
        </p:nvPicPr>
        <p:blipFill>
          <a:blip r:embed="rId3"/>
          <a:stretch/>
        </p:blipFill>
        <p:spPr>
          <a:xfrm>
            <a:off x="304920" y="4191120"/>
            <a:ext cx="2895480" cy="192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6840" y="1609200"/>
            <a:ext cx="4419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5e1ec"/>
                </a:solidFill>
                <a:latin typeface="Trebuchet MS"/>
              </a:rPr>
              <a:t>Procedure and Variables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50 random numbers from 1 to 120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hoose the corresponding weeks from the horoscope archives and analyze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7e6ef"/>
                </a:solidFill>
                <a:latin typeface="Trebuchet MS"/>
              </a:rPr>
              <a:t>Test 1: used numbers 4-10</a:t>
            </a:r>
            <a:endParaRPr b="0" lang="en-US" sz="2200" spc="-1" strike="noStrike">
              <a:solidFill>
                <a:srgbClr val="f7e6ef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7e6ef"/>
                </a:solidFill>
                <a:latin typeface="Trebuchet MS"/>
              </a:rPr>
              <a:t>Test 2: used scale of </a:t>
            </a:r>
            <a:endParaRPr b="0" lang="en-US" sz="2200" spc="-1" strike="noStrike">
              <a:solidFill>
                <a:srgbClr val="f7e6ef"/>
              </a:solidFill>
              <a:latin typeface="Trebuchet MS"/>
            </a:endParaRPr>
          </a:p>
          <a:p>
            <a:pPr lvl="2" marL="728280" indent="-21924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5e1ec"/>
                </a:solidFill>
                <a:latin typeface="Trebuchet MS"/>
              </a:rPr>
              <a:t>very high (v) = 9-10</a:t>
            </a:r>
            <a:endParaRPr b="0" lang="en-US" sz="1900" spc="-1" strike="noStrike">
              <a:solidFill>
                <a:srgbClr val="f5e1ec"/>
              </a:solidFill>
              <a:latin typeface="Trebuchet MS"/>
            </a:endParaRPr>
          </a:p>
          <a:p>
            <a:pPr lvl="2" marL="728280" indent="-21924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5e1ec"/>
                </a:solidFill>
                <a:latin typeface="Trebuchet MS"/>
              </a:rPr>
              <a:t>High (h) = 7-8</a:t>
            </a:r>
            <a:endParaRPr b="0" lang="en-US" sz="1900" spc="-1" strike="noStrike">
              <a:solidFill>
                <a:srgbClr val="f5e1ec"/>
              </a:solidFill>
              <a:latin typeface="Trebuchet MS"/>
            </a:endParaRPr>
          </a:p>
          <a:p>
            <a:pPr lvl="2" marL="728280" indent="-21924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5e1ec"/>
                </a:solidFill>
                <a:latin typeface="Trebuchet MS"/>
              </a:rPr>
              <a:t>Medium (m) = 5-6</a:t>
            </a:r>
            <a:endParaRPr b="0" lang="en-US" sz="1900" spc="-1" strike="noStrike">
              <a:solidFill>
                <a:srgbClr val="f5e1ec"/>
              </a:solidFill>
              <a:latin typeface="Trebuchet MS"/>
            </a:endParaRPr>
          </a:p>
          <a:p>
            <a:pPr lvl="2" marL="728280" indent="-21924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5e1ec"/>
                </a:solidFill>
                <a:latin typeface="Trebuchet MS"/>
              </a:rPr>
              <a:t>Low (l) = 4</a:t>
            </a:r>
            <a:endParaRPr b="0" lang="en-US" sz="19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247" name="Picture 2" descr="http://www.lamercollections.com/site_images/horoscope_image.jpg"/>
          <p:cNvPicPr/>
          <p:nvPr/>
        </p:nvPicPr>
        <p:blipFill>
          <a:blip r:embed="rId2"/>
          <a:stretch/>
        </p:blipFill>
        <p:spPr>
          <a:xfrm>
            <a:off x="4876920" y="2209680"/>
            <a:ext cx="3070080" cy="304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657240" y="2010960"/>
            <a:ext cx="4267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e6ef"/>
                </a:solidFill>
                <a:latin typeface="Trebuchet MS"/>
              </a:rPr>
              <a:t>Test 3: used variables for area</a:t>
            </a:r>
            <a:endParaRPr b="0" lang="en-US" sz="2400" spc="-1" strike="noStrike">
              <a:solidFill>
                <a:srgbClr val="f7e6ef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5e1ec"/>
                </a:solidFill>
                <a:latin typeface="Trebuchet MS"/>
              </a:rPr>
              <a:t>H = health/energy</a:t>
            </a:r>
            <a:endParaRPr b="0" lang="en-US" sz="2100" spc="-1" strike="noStrike">
              <a:solidFill>
                <a:srgbClr val="f5e1e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5e1ec"/>
                </a:solidFill>
                <a:latin typeface="Trebuchet MS"/>
              </a:rPr>
              <a:t>L = love</a:t>
            </a:r>
            <a:endParaRPr b="0" lang="en-US" sz="2100" spc="-1" strike="noStrike">
              <a:solidFill>
                <a:srgbClr val="f5e1e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5e1ec"/>
                </a:solidFill>
                <a:latin typeface="Trebuchet MS"/>
              </a:rPr>
              <a:t>S = social/friendships</a:t>
            </a:r>
            <a:endParaRPr b="0" lang="en-US" sz="2100" spc="-1" strike="noStrike">
              <a:solidFill>
                <a:srgbClr val="f5e1e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5e1ec"/>
                </a:solidFill>
                <a:latin typeface="Trebuchet MS"/>
              </a:rPr>
              <a:t>W = work/power</a:t>
            </a:r>
            <a:endParaRPr b="0" lang="en-US" sz="2100" spc="-1" strike="noStrike">
              <a:solidFill>
                <a:srgbClr val="f5e1e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5e1ec"/>
                </a:solidFill>
                <a:latin typeface="Trebuchet MS"/>
              </a:rPr>
              <a:t>M = money</a:t>
            </a:r>
            <a:endParaRPr b="0" lang="en-US" sz="2100" spc="-1" strike="noStrike">
              <a:solidFill>
                <a:srgbClr val="f5e1e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5e1ec"/>
                </a:solidFill>
                <a:latin typeface="Trebuchet MS"/>
              </a:rPr>
              <a:t>E = other emotions</a:t>
            </a:r>
            <a:endParaRPr b="0" lang="en-US" sz="21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e1ec"/>
                </a:solidFill>
                <a:latin typeface="Trebuchet MS"/>
              </a:rPr>
              <a:t>Conduct Tests and Intervals</a:t>
            </a:r>
            <a:r>
              <a:rPr b="1" lang="en-US" sz="2800" spc="-1" strike="noStrike">
                <a:solidFill>
                  <a:srgbClr val="f5e1ec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250" name="Picture 2" descr="http://www.petrabaan.nl/uploads/images/illustration/Horoscoop_libelle_alle12_web.jpg"/>
          <p:cNvPicPr/>
          <p:nvPr/>
        </p:nvPicPr>
        <p:blipFill>
          <a:blip r:embed="rId2"/>
          <a:stretch/>
        </p:blipFill>
        <p:spPr>
          <a:xfrm>
            <a:off x="533520" y="1523880"/>
            <a:ext cx="2808000" cy="4921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7492680" cy="1158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7848720" cy="5638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139680" y="-231840"/>
            <a:ext cx="7797960" cy="1152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3351240" cy="5105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"/>
          <p:cNvPicPr/>
          <p:nvPr/>
        </p:nvPicPr>
        <p:blipFill>
          <a:blip r:embed="rId3"/>
          <a:stretch/>
        </p:blipFill>
        <p:spPr>
          <a:xfrm>
            <a:off x="4191120" y="1219320"/>
            <a:ext cx="3352680" cy="510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5e1ec"/>
                </a:solidFill>
                <a:latin typeface="Trebuchet MS"/>
              </a:rPr>
              <a:t>Sign Distribution</a:t>
            </a: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5257800" cy="4294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5791320" y="1828800"/>
            <a:ext cx="1538280" cy="426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9:37:35Z</dcterms:created>
  <dc:creator>kempf.C353</dc:creator>
  <dc:description/>
  <dc:language>en-US</dc:language>
  <cp:lastModifiedBy>Lauren Senske</cp:lastModifiedBy>
  <dcterms:modified xsi:type="dcterms:W3CDTF">2011-01-10T16:19:47Z</dcterms:modified>
  <cp:revision>57</cp:revision>
  <dc:subject/>
  <dc:title>Horoscopes</dc:title>
</cp:coreProperties>
</file>